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7C79-84AF-4C0B-91EE-85E0BC349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A914-FE1B-4062-A99A-5335967E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C22F-E80D-4D32-9CC7-8916E58E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D71B-9044-4E93-B7BC-43C766F1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9F87-4A57-4350-AFAB-571F4F1AF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89E4-DFB6-48E5-AE02-14BA48F0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116F-56AA-4967-9D03-30A09495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51AE-4E13-4684-B8D2-685F9FE4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EEDF-65FB-4331-8555-20D82FE6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693A-261A-449F-AEA0-A27F6196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5B2D-B016-4A34-B84A-65A1132D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F4AC-55B1-4716-B960-C215C816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6BE5-3940-46B3-866B-DB381F6A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A81A-570C-4888-8972-226018EE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A5D5-7813-411B-99DA-7DDCA6C3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2BFE-AE64-4E12-A751-56CA4633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1845-549E-4A13-B769-9F70C5C60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910A-8E96-4B8F-8457-89E80BBE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D474-E96C-4208-9559-5E13F04D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E5AB-F060-4228-811E-C02DBAC5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2645-3B61-43B0-B65D-5F23A05D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49F9-58ED-472A-ACAE-3B4510BF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EC15-0416-4690-8E6F-EA553BCB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7E0F-98CB-4DDD-B2AD-9EE4D7D7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69F6-E7D0-48EE-BD73-1F5FAC34DAB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F392-63A2-4691-8358-9239FE19A3D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quiry Processes at Te Pahu School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servable chan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ning is becoming more of a collaborative exerci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are learning to look for and plan for connections between classes / whole school / within a topic or idea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g Recycli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equent professional discussions i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ff meetin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ndicate meetin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agement meetin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 meetin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retionary time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ent / parent / teacher conferen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ent surve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r planning, teaching, assessment and reporting processes have needed review to represent the changes we are making in learning and teach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us on self assess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ent lead conferen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r survey showed high level of acceptance but the need for a parent ‘education’ eve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E Targets are related to student self assessment using criteria (WALT / HWIK, Rubric, Learning Intention, Matrix, ….) The common theme is that the student is being made aware of what success / quality learning looks lik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reviewed our budget and ‘reclaimed’ finances (Along with a grant) so that we could purchase a data projector to be mounted in each classro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fessional development has been focussed as a ‘whole school’ focu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are all attending ulearnz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 a shared enthusiasm for PD that builds on our journey (Pam Hook on Questioning, Georgette Jenson on Rubr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r task now is to continue to explore the possibilities of using inquiry processes in meaningful ways in student / teacher learning and come to some agreed understanding of a process from Y1 to Y8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e To develop “From the New Zealand Curriculum to School Curriculum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00:10:21Z</dcterms:created>
  <dc:creator>Falconer  </dc:creator>
  <dc:description/>
  <dc:language>en-US</dc:language>
  <cp:lastModifiedBy>Ministry of Education</cp:lastModifiedBy>
  <dcterms:modified xsi:type="dcterms:W3CDTF">2008-05-18T20:24:58Z</dcterms:modified>
  <cp:revision>6</cp:revision>
  <dc:subject/>
  <dc:title>Inquiry Processes at Te Pahu School</dc:title>
</cp:coreProperties>
</file>